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9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103C-2345-4F0E-9691-3087DD994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E62A-EE23-439A-9B61-130C7697311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47D2-192A-4D0D-971B-E4B35F2126B9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134F-0A4D-4EF8-9C98-D75CB5944D5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DCEF-48B3-4458-9608-D5AF9BD4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6D32-7736-4F69-B974-BA803E75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EE83-0EF6-47A6-BF2D-17F2AC76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54A-662C-4125-8431-5093958A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1150-F7ED-4870-88AC-09A6A18C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02AF-882E-4FC7-99E9-4AED90FE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F96F-6705-4A32-B68B-19211C01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8347-6D7C-411A-B81C-51301633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95B3-A88B-4FD8-B2C9-E228BDAB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5E86-7317-4683-BE30-BEC4AD56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61CB-6945-4E25-ABD5-035FF38F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420-8CA4-4B81-9B6E-3CD58752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784A-AA37-4FD7-A59C-13240F49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D317-875A-4C7F-9894-F2519743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43AA-0BF5-4418-A652-7FF89439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FB77-C862-4732-9D49-6B83490F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2F83-719D-455D-BE48-19315467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7BD95B-A157-40BE-8854-9C09FC5D5C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E77C55-D880-4B1A-B17B-7517832B95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A2C2F9-9B74-4382-8587-0B8A1AF018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8CB564-F85E-42CB-AD2A-C52CF27757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7D37FC-DB9D-4B5B-9EF5-FA5E08A176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B7E-BB5A-47D8-99BC-52C93C7F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68A22A-0D47-4C92-8199-DF416DA6EF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0A3FFD-8CE2-4C54-942A-F89C3BF099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F6C01C-850F-41C8-A171-F3FC9E248A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4CEF0A-3D3C-428A-A846-694D370222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EC7161-E84A-43DC-8805-9DC6FF9B80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FF9AFA-F9F8-431E-9C31-EAF903883C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EBD075-1CD3-4CAA-B689-E7A89A8C6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18B-6CB1-4A07-AFBF-21F95E82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8319-D02A-413F-9528-85FA6B25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A65D-7DF6-43EB-A958-0526D8E5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E643-6A2D-4854-992D-1024B2C9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347-B92A-487E-BCB9-45F72454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0CD9-8766-4E26-8D91-22147703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9762-0624-4DCD-99F7-1F8383220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4AEA-0A35-4EC4-9DDF-D94B77932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791D-B287-4724-BB02-AC0F62C6F894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2640" y="3504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Tahoma"/>
              </a:rPr>
              <a:t>КЛИНИЧКА ФИЗИКАЛНА ТЕРАПИЈА БОЛЕСНИКА СА МУЛТИПЛОМ СКЛЕРОЗОМ И ЕКСТРАПИРАМИДАЛНИМ ЛЕЗИЈАМА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16" name="TextBox 1"/>
          <p:cNvGrpSpPr/>
          <p:nvPr/>
        </p:nvGrpSpPr>
        <p:grpSpPr>
          <a:xfrm>
            <a:off x="1712880" y="407880"/>
            <a:ext cx="6437520" cy="841320"/>
            <a:chOff x="1712880" y="407880"/>
            <a:chExt cx="6437520" cy="841320"/>
          </a:xfrm>
        </p:grpSpPr>
        <p:pic>
          <p:nvPicPr>
            <p:cNvPr id="317" name="TextBox 1" descr=""/>
            <p:cNvPicPr/>
            <p:nvPr/>
          </p:nvPicPr>
          <p:blipFill>
            <a:blip r:embed="rId1"/>
            <a:stretch/>
          </p:blipFill>
          <p:spPr>
            <a:xfrm>
              <a:off x="1712880" y="407880"/>
              <a:ext cx="6437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828800" y="457200"/>
              <a:ext cx="6265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Универзитет у Кр</a:t>
              </a: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гујевц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900" spc="-1" strike="noStrike">
                  <a:solidFill>
                    <a:srgbClr val="40458c"/>
                  </a:solidFill>
                  <a:latin typeface="Tahoma"/>
                </a:rPr>
                <a:t>ФАКУЛТЕТ МЕДИЦИНСКИХ НАУКА</a:t>
              </a:r>
              <a:endParaRPr b="0" lang="en-US" sz="19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19" name="Picture 10" descr=""/>
          <p:cNvPicPr/>
          <p:nvPr/>
        </p:nvPicPr>
        <p:blipFill>
          <a:blip r:embed="rId2"/>
          <a:stretch/>
        </p:blipFill>
        <p:spPr>
          <a:xfrm>
            <a:off x="990720" y="222120"/>
            <a:ext cx="76176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Симптоми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SzPct val="1509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утрнулост или слабост у једном или више екстремитета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делимични или потпуни губитак вида, обично на једном оку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двослике или замућење вида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невољни покрети очима и треперење очних јабучица, 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снажан нагон за мокрењем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надутост и нередовна столица, 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оштећење сексуалних функција, 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SzPct val="15095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немогућност ејакулације, 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поремећаји спавања и апетита, 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нагле промене расположења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трњење или болови у деловима тела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тремор, недостатак координације или несигуран ход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неразговетан говор, умор и вртоглавица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5095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проблеми с цревима и функцијом мокраћне бешике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EB77-6E15-4559-BB5B-1A894D942BB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СИМПТОМИ И ЗНАЦИ МУЛТИПЛЕ СКЛЕРОЗ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зноврсност симптома и знакова МС-а је последица бројних предилекционих места за настанак демијелинизационих плак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торни, сензитивни, визуелни, симптоми и знаци оштећења можданог стабла и малог мозга су најчешће манифестације боле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акође су веома чести и поремећај функције мокраћне бешике, црева, замор,бол и когнитивни поремећај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9B1D-3E91-4F7A-8936-421D7A980E0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МОТОРНЕ МАНИФЕСТ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торни симптоми и знаци произилазе из захваћености кортикоспиналног (пирамидног), кортикобулбарног, церебеларних и сензитивних путе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и моторни дефицит представља слабост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лабост једног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кстремитета (монопареза), једне стране тела (хемипареза), парапарезе или слабости св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четири екстремитет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квадрипареза). Слабост у доњим екстремитетима ј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чешћа и јавља се раније у односу на слабост у горњим екстремитет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астицитет се јавља код великог броја болесника са МС, најчешће у ногама, а ређе у рук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E097-95D1-4ECA-8072-DDF91C5EBF7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астичну хипертонију карактерише повишен мишићни тонус клинички праћен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коченошћу, нелагодношћу, болом и ограничен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кретљивошћу услед немогућности захваћеног мишића да се опусти када није укључен у вољну активност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1332-B9E7-406E-8E29-9FF55601DA1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мијелинизационе промене малог мозга или његових аферентних или еферентних путева доводи д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таксије хода, трупа, екстремитет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куларне и булбарне атаксије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нтенционог тремо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исметриј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CDF4-ACDF-4F15-AA46-9DEB76D0B2A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штећење спиноталамичког пута се карактерише појавом сензитивних  симпто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дстављају најчешће симптоме који се јављају као почетна клиничка манифестација у МС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есници чешће имају позитивне сензације у виду парестезија, дизестезија, хиперпатије или алодиније, него смањење или одсуство сенза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4429-F55F-4BC5-A354-C417E3D19CB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манифестације оштећења можданог стабле с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ремећај покретљивости очних јабучица са појавом дуплих слик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истагмус који је најчешће хоризонтал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имптоми и знаци лезије кранијалних нера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47C9-4C43-49FA-A021-DB0DF3F2C29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штећење оптичког система се манифествује спонтаним болом у дубини ока или фронтално орбиталној регији, смањење оштрине вида, појава ското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штећење функције сфинктера: ургетна микција, ретенција или инконтиненција, опстипација или фекална инконтиненц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F4A0-8FB3-4612-B0E4-368AE3D1953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Дијагноз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Не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остоји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ниједн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линичк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манифестациј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или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дијагностички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тест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или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ликворски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маркер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апсолутно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специфичан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сензитиван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з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М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линички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ритеријуми</a:t>
            </a:r>
            <a:r>
              <a:rPr b="0" lang="sr-CS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дисеминација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лезија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времену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простору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одсуство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другог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бољег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објаш</a:t>
            </a:r>
            <a:r>
              <a:rPr b="0" lang="sr-CS" sz="2200" spc="-1" strike="noStrike">
                <a:solidFill>
                  <a:srgbClr val="40458c"/>
                </a:solidFill>
                <a:latin typeface="Tahoma"/>
              </a:rPr>
              <a:t>њ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ења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за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настале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проблеме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A56A-0F84-4CA6-AEEA-D8C1AE37574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Дијагностик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еуролошки прегле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Лабораторијски преглед – ликвор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Допунска дијагности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Компјутеризована томограф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МР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Визуелни евоцирани потенцијал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2CFC-FA5C-43F6-87DC-A5E2754D371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391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458c"/>
                </a:solidFill>
                <a:latin typeface="Tahoma"/>
              </a:rPr>
              <a:t>КЛИНИЧКА ФИЗИКАЛНА ТЕРАПИЈА БОЛЕСНИКА СА МУЛТИПЛОМ СКЛЕРОЗОМ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Анализа ликвора код МС-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95-99%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лигоконалн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ак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иквор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тодом IEF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олигоклоналн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gG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g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ормалан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лаго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ишен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иво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теи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перпротеинорахиј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ормалан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р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ћелиј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л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лага плеоцито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50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E7D8-67E3-457D-A9D5-051482187D3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Терап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-361080">
              <a:spcBef>
                <a:spcPts val="24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едикаметоз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24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Хигијенско-дијететски режи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24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Физикална 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кинезитерапиј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хидротерапиј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електротерапиј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термотерапиј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балнеотерап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17D5-887B-4BC7-A16B-1CB4AA877D1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Медикаментоз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335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ЛЕЧЕЊЕ АКУТНЕ ФАЗЕ БОЛЕСТ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улсна кортикостероид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лазмафереза (терапијска измена плазме,тешки релапси, не реагују на КС тх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ТЕРАПИЈЕ КОЈЕ МОДИФИКУЈУ ПРИРОДНИ ТОК БОЛЕСТ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нтереферон бета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interferon beta 1a и interferon beta 1b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латирамер ацета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итоксантро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тализумаб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1A8E-1603-4D81-A7EB-1D26060F323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СИМПТОМАТСКА ТЕРАП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мена процедура физикалне рехабилитације спада у симтоматску терапију код пацијената са МС-ом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акође је неоходна и адекватна психосоцијална подршка од стране породице и друштв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534E-B1AB-46E8-8C96-E6FC3E8804B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ма водичу за МС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изикалну рехабилитацију болесницима са МС од самог почетка болести треба да пружа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мултидисциплинарни тим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ји, поред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неуролог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треба да чини </a:t>
            </a: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медицинска сестра, физијатар, физиотрапеут, радни терапеут, логопед, неуропсихолог, психолог, социјални радник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а по потреби се у овај тим могу укључити нутрициониста, и ортопед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5295-8445-43B3-9C59-F8DF05BBA72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Рехабилитација 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аветује се усмеравање пацијената на индивидуалнизоване рехабилитационе програме у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амбулантним неурорехабилитационим јединиц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д болесника код којих транспорт до амбулантних јединица није могућ, као и оних који имају ограничену покретљивост, рехабилитацију би требало спроводити у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рехабилитационим установама стационарног тип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у којима је рад базиран на интегрисаним рехабилитационим програми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European Multiple Sclerosis Platform, 2012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D741-9BCA-46B2-A556-6ADCADDDB27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есто физикалне терапије у лечењу МС још увек није довољно разјашњен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0000"/>
                </a:solidFill>
                <a:uFillTx/>
                <a:latin typeface="Tahoma"/>
              </a:rPr>
              <a:t>Принципи</a:t>
            </a:r>
            <a:r>
              <a:rPr b="1" lang="sr-CS" sz="24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8320" indent="-254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Физикалну терапију не треба примењивати у фазама активности болести, већ у фазама стабилизације и миров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8320" indent="-254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ора се избегавати свако веће физичко напрезањ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(замор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8320" indent="-254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имена топлотних процедура може довести до погоршањ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 Uthoff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8320" indent="-254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Рехабилитациони програм се прави индивидуал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8320" indent="-254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DC1D-436E-44D7-A236-CFC52079450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инезитерап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 започиња кинезитерапије имати у вид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Неочекиване ремисије и егзарцебације боле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Утицај климатских факто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Разноврсност функционалних пром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Физичка замарања могу погоршати боле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Болест може погоршати загревање организ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F9C7-5E2A-41F0-B4FF-DD8830D550A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ФИЗИОТЕРАПЕУТСКИ ПРЕГЛЕД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серв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лп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тон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мишићне снаг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обима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троф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ункционална процена кроз специфичне тестов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B716-71D7-4E3B-9041-C42BB57A0BF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6f89f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цену мишићног тонуса- Ашворт ск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265320">
              <a:spcBef>
                <a:spcPts val="601"/>
              </a:spcBef>
              <a:buClr>
                <a:srgbClr val="6f89f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цену реакција баланса- Бергова скала балан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265320">
              <a:spcBef>
                <a:spcPts val="601"/>
              </a:spcBef>
              <a:buClr>
                <a:srgbClr val="6f89f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ордин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265320">
              <a:spcBef>
                <a:spcPts val="601"/>
              </a:spcBef>
              <a:buClr>
                <a:srgbClr val="6f89f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кретљивост 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265320">
              <a:spcBef>
                <a:spcPts val="601"/>
              </a:spcBef>
              <a:buClr>
                <a:srgbClr val="6f89f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цену асоцираних реак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265320">
              <a:spcBef>
                <a:spcPts val="601"/>
              </a:spcBef>
              <a:buClr>
                <a:srgbClr val="6f89f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мпензацијске активности (претерана употреба неоштећене стране тела или неадекватна употреба оштећене стране тел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265320">
              <a:spcBef>
                <a:spcPts val="601"/>
              </a:spcBef>
              <a:buClr>
                <a:srgbClr val="6f89f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блеми говора, вида и слух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265320">
              <a:spcBef>
                <a:spcPts val="601"/>
              </a:spcBef>
              <a:buClr>
                <a:srgbClr val="6f89f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тивности свакодневног живота- Бартел индек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1BA2-925E-4CE5-BE47-F842BE837C0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ултипла склероза јест болест која се у неуролошкој класификацији болести сврстава у демијелинизационе боле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сновна патоанатомска променаје огњиште демијелинизације одн. “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laque”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плак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ултипла склероза представља хронично инфламаторно обољење централног нервног система непознате етиолог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свету болује 2,5 милиона људи од МС-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Србији има 7 000 оболелелих од МС-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BB32-8499-448C-AEC6-4BBD535B33F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функционалности врши се путем ЕДСС ска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тављање рехабилитационог програма врши се путем се функционалном статусу пацијен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же да се спроводи амбулатно и стационарно, такође се врши обука пацијента за спровођење рехабилитације у кућним условима (ктх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D792-CDB8-4B4E-B0A6-F41BF26A643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роцена према ЕДСС скору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0912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инимални степен функционалне онеспособљености (ЕДСС 0-2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ак до средњи степен функционалне онеспособљености (ЕДСС 2-5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редњи степен функционалног ограничења (ЕДСС 5.5 - 6.5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редњи до тешки степен функционалног ограничења уз коришћење инвалидских колица (ЕДСС 7-8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шки степен функционалних ограничења, пацијенти везани за кревет већи део дана (ЕДСС 8-9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7AAF-4D8C-401F-81B9-D107A168570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Рехабилитац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Циљ рехабилитације код ЕДСС скора 0-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одржавање функционалног статуса, савет за адекватну физичку активност, без специфичних терапијских модалитет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Циљ рехабилитације код ЕДСС скора 2-5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чувању моторних функција, балансу, координацији, мобилности и инхибицији спастицит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ухвата примену ктх, радне терапије, елетротерапије (ЕС,  ТЕНС), примена ортотских средста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EF1B-6D43-47E5-A0B6-D182DD8B4F1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Рехабилитац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Циљ рехабилитације код ЕДСС скора 5,5-6,5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стационарна рехабилитација, акценат на терапији повишеног тонуса; КТХ, криотерапија, ФЕС, ТЕНС, хидротерап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Циљ рехабилитације код ЕДСС скора 7-8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одржавање мобилности колицима. КТХ програм за јачање ГЕ и редукцију спастицитета, баланси и транфер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Циљ рехабилитације код ЕДСС скора 8-9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одржавање мобилности у кревету и превенија компликација (контрактура, РС, КВС, декубити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3563-5863-4F28-B46E-3A898D9F867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инезитерап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ежбе за побољшање равнотеж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стуралних реакциј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приоцептивне контроле доњих екстремитета (Френкелове вежбе)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ежбе инхибиције тонуса (пасивне и активне) кроз рефлексно инхибиторне положаје и покрет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ежбе са отпором и аеробни тренин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Едукција пацијент и породице за спровођење ктх програма у кућним услов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C21B-814B-4551-8613-9A5D11E4CF8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Френкелове вежб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ложене вежбе за поправљање проприоцептивне контроле Д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чиње се једностравнијим вежбама, након тога се усложњавају. Ове вежбе се користе када постоји оштећење проприоцептора због поремећаја ЦНС-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де се под контролом физиотерапеу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бог могуће појаве замора свака вежба се изводи не више од 4 пута у свакој сери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воде се у 4 положаја: лежећи, седећи, стојећи и вежбе у ход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4007-0C2B-496D-89B8-C90E9E2912B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Вежбе инхибиције тонуса (пасивне и активне) кроз рефлексно инхибиторне положаје и покрете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батов третман се састоји у измени абнормалних положаја и покрета код израженог спастиците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астицитет се мења на два начи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помоћу статичког рефлекса инхибирајућег положаја физиотерапеут успоставља образце контролише и држи део тела болесн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рефлекс инхибирајући покрет, фацилитирамо вољне и усмерено циљани покре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7129-0280-49BB-A4C0-55461177640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Проприоцептивна неуромишићна фацилитација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Кабат метод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74760" indent="-374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снива се на постизању максималне контракције парализованих мишића у фацилитацији максималних вољних покретакоје човек кори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бразац покрета је дијагоналан: интерна- ектерна ротација,флексија-екстензија, абдукција-аддук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ханизми ПНФ с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лакшавање покрета против максималног отпора (основа фацилитације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лакшавање вољних покрета рефлекс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лакшавање вољних покрета путем ирадиј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лакшавање вољних покрета помоћу другог (агонист-антагонис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CF21-2F4D-40C7-AE51-DAEF5B1DAB6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Хидрокинезитерап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моћава пацијенту да дуже буде актива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ма позитивно психотерапијско дејств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маже јачању ослабљених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рочито се саветује пацијентима са отежаним ход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хладне диферентне зоне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26-30</a:t>
            </a:r>
            <a:r>
              <a:rPr b="0" lang="en-US" sz="2400" spc="-1" strike="noStrike">
                <a:solidFill>
                  <a:srgbClr val="40458c"/>
                </a:solidFill>
                <a:latin typeface="Calibri"/>
              </a:rPr>
              <a:t>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F1CA-70A7-4A5D-8C63-0D4A0CF9E17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риотерап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зитивно делује на смањење гама спастичн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ладноћа доводи до смањења надражњивости гама-моторног система (мишићно вретен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5004-3D3D-445C-B5B7-860A2F907D1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Етиолог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роци настанка МС-а су непозна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утоимуна болест, где организам грешком ствара Ат која нападају мијелински омотач нера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нку болести допориносе наслеђе, стрес, утицај околине, клима, начин живота и неправилна исхра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ки научници сматрају да неки вируси и бактерије доводе до настанка боле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8167-553C-4992-9E5D-300BE86B743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Електростимулац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 интензивној ЕС Голџијевог апарата у тетивама долази до релаксације третираног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бјашњење антиспастичног деловања лежи у тзв аутогеној инхибици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С антагонистичких мишића такође доводи до релаксације спасичних мишића на основу Шерингтонове реципрочне инерв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на пр. ЕС екстензора доводи до релаксације флексора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763F-1E31-477C-9F9D-A1B1878AE1B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330948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458c"/>
                </a:solidFill>
                <a:latin typeface="Tahoma"/>
              </a:rPr>
              <a:t>КЛИНИЧКА ФИЗИКАЛНА ТЕРАПИЈА БОЛЕСНИКА СА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АРКИНОНОВОМ БОЛЕШЋУ</a:t>
            </a:r>
            <a:r>
              <a:rPr b="1" lang="fr-FR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ркинсонова болест је прогресиван поремећај централног нервног систе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ада у групу неуродегенеративних обољењ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лавни симптоми болести је још 1817. описао енглески лекар др. Јамес Паркинсон, који ју назива дрхтајућа парализ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и поремећај покрета присутан у 1-2 % популације преко 65 годи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ешћи код мушкара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A0A4-8C3E-45D8-9C0A-1869CF2604D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ркинсонова болест је најчешћи облик паркинсонизма (тремом, ригор, брадикинезиј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есто се назива и идиопатска Паркинсонова болест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руги облици паркинсонизма укључуј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ултиплу системску атрофију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гресивну супрануклеарну парализу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ркинсонизам изазван леков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0141-B38F-4800-A691-89036841648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мозгу постоје неуротрансмитери – допамин и ацетилхолин који, у међусобној равнотежи, преносе поруке између нервних ћелија и мишића. То нам омогућава да изводимо читав низ координисаних покр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д оболелих од Паркинсонове болести та је равнотежа поремећена јер долази до пропадања допаминергичких неурона и када пропадне њих 80%, почиње се манифесовати болест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атра се да разлог за то може бити више различитих фактора као што су: генетска склоност, фактори околине и вирус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3F95-45A8-45D2-BF6C-38DE754B3E7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Екстрапирамидни систем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куп језгара и њихових веза изван пирамидног систе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сновна функција екстрапирамидног система односи се на повезане покрета, постуралне реакције и аутоному интеграц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кстрапирамидни систем је функцијски систе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лавни делови су: базалне ганглије и њихове везе са деловима мезенцефалона, вестибуларног апарата и деловима коре мозга која учествује у моторној контрол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Г су филогенетски најстарји део мозг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EA07-3E2B-48BD-A437-44B601FB4BD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азалне ганглије чин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ucleus caudat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2. putam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3. globus palid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чествују у стварању покрет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нтроли рефлекса на истез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 стварању аутоматиз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86C2-7FA0-41D5-B3D5-7755C37981A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ЕКСТРАПИРАМИДАЛНИ СИСТЕМ сложени део нервног система који учествује у регулацији покрета, равнотеже, тонуса мишића и мишићних рефлек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36FB-759F-4C8C-9539-03AA502C40F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ЕТИОЛОГ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09120" y="18288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Генетска условљен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ерано и убрзано старе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Деловање токси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етаболички поремећа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Инфе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647960" y="19047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Имунолошки поремећа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Емоционалне траум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едикаментоз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Туморски паркинсониза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Трауматски паркинсониза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SzPct val="11317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FF26-575B-4BA4-8C46-511CD1B2564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85800" y="15238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Тремор у миру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– груб, велике амплитуде, асиметричан; појачава се са узбуђењем; губи се у сну и при вољним радњама (</a:t>
            </a:r>
            <a:r>
              <a:rPr b="0" lang="ru-RU" sz="2400" spc="-1" strike="noStrike">
                <a:solidFill>
                  <a:srgbClr val="40458c"/>
                </a:solidFill>
                <a:latin typeface="Calibri"/>
              </a:rPr>
              <a:t>”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ројање новца</a:t>
            </a:r>
            <a:r>
              <a:rPr b="0" lang="ru-RU" sz="2400" spc="-1" strike="noStrike">
                <a:solidFill>
                  <a:srgbClr val="40458c"/>
                </a:solidFill>
                <a:latin typeface="Calibri"/>
              </a:rPr>
              <a:t>”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; </a:t>
            </a:r>
            <a:r>
              <a:rPr b="0" lang="ru-RU" sz="2400" spc="-1" strike="noStrike">
                <a:solidFill>
                  <a:srgbClr val="40458c"/>
                </a:solidFill>
                <a:latin typeface="Calibri"/>
              </a:rPr>
              <a:t>”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ажење педала</a:t>
            </a:r>
            <a:r>
              <a:rPr b="0" lang="ru-RU" sz="2400" spc="-1" strike="noStrike">
                <a:solidFill>
                  <a:srgbClr val="40458c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Брадикинезија -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тешкоће са АДЖ; осиромашење аутоматских покрета (махање рукама у ходу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Ригор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јачан мишићни тонус или укоченост мишића; «оловна шипка«; Негроов феномен (зупчасти точак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6779-4C77-40A7-9878-0A3CE1C1499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же се јавити у свакој животној доби, али најчешће између 20 и 45 годи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Жене 2-3 пута чешће обољевају од мушкара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3A30-A992-41E0-B399-B5B96F656CF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1800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Постурална нестабилност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: нестабилност и заношење при ходу (губитак постуралних рефлекса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1800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Рукопис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: екстрапирамидна микрографиј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1800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Говор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 монотон, сливен, тих </a:t>
            </a:r>
            <a:r>
              <a:rPr b="0" lang="sr-CS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 неразумљи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1800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Дисфунција аутономног нервног система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: оштећена диг. перисталтика, дисфункција бешике, хиперсаливација, ортостатска хипотензиј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1800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Депресија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: блага или умерена депресија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у 50 %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ацијенат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1800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Когнитивно оштећење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: благо когнитвно оштећење са оштећењем визуелно-просторне перцепције, пажње и концентрације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у ⅓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ацијенат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AC3C-C5F5-41A3-8C55-ADED266B75A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ПОРЕМЕЋАЈ ХОДА</a:t>
            </a:r>
            <a:br>
              <a:rPr sz="3600"/>
            </a:b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ХИПОКИНЕТСКИ ХОД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нтинуирани поремећај хода у ПБ где је смањена је брзина хода, као последица смањене амплитуд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спорење корака, а вероватно и брадикинезија уопште, настаје услед поремећаја централног генератора дужине корак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реба узети у обзир и повишење мишићног тонуса оболелог од ПБ који је флектиране постуре и укочен, као фактору који значајно доприноси постуралном поремећа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311A-6804-4B3B-9C6C-ABAE456FC0D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ПОРЕМЕЋАЈ ХОДА</a:t>
            </a:r>
            <a:br>
              <a:rPr sz="4000"/>
            </a:b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ФРИЗИНГ ХОД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рста акинезије приликом које пацијенти имају краткотрајне периоде када се осећају као „блокирани”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дразумева епизодични поремећај хода који типично траје неколико секунди, обично 1 до 2с а ретко дуже од 10с, током којег оболели има доживљај да стопала не може да одвоји од подлоге, упркос менталном напору да превазиђе ову препреку и настави кретањ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58A6-D33F-4B51-BB5E-9DFD47CCE46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ФРИЗИНГ ХОД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1EEA-B801-499B-B398-22C079156A4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685800" y="1752480"/>
            <a:ext cx="2438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Замор, стрес, когнтивно оптерећење, анксиозност и депресија доприносе појав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Јавља се у одмаклом стадијуму боле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Дијагност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 постоје специфичне методе дијагност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ијагноза се поставља на основу неуролошког преглед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лавни симптоми с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ремор у миру; обично више изражен на једној страни те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игор (укоченост мишића руку, ногу и врат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радикинезија (успорење покрет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9C0B-9403-48D7-8BA3-29D73F3DCD8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Лечењ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дикаментозно лечењ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vodopa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hibitori enzima monoaminoksidaze tipa B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,antiholinergici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  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риршко лечењ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тереотаксија,палидотомија и стимулација дубоког мозг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хабилит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FAD4-540F-4D87-9412-0AEE7FCAF79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Рехабилитац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инезитерапија – најзначанија, треба је спроводити систематично и доживот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ханотерапија- ручна масажа- смањују риго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дрокинезитерпија – смањује ригор мишића, побољшава флесибилност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уз надзор терапеута због губитка аутоматских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мпература воде 37-38⁰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ритерапија- смањује риго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лектростимул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6C2A-867F-4292-A44A-362E8D07175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инезитерап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астоји се од низа поступака који су усмерени на основне функционалне поремећаје паркинсонизм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упадљиве сметње вољног, рефлексног и аутоматског мотилитет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општа психомоторна успореност и немогућност извођења брзих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отежан хо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сметње гово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B505-0D9A-4F19-BEB0-404CF0D4EFF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инези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 може да успори или заустави дегенеративне процесе на базалним ганглиј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оходна је мотивисати пацијента за сарадњ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тх програм се поставља индивидуално, према функционалном статусу пацијен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функционалном статусу неопходно је регистровати све поремећаје  знаке Паркинсонове болести: тремор, ригор, хипокинезија, оштећење постуралних рефлек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A27C-5A51-4A9C-A126-A8FE44ABE48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отерапеутска процен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серв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лп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тон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мишићне снаг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обима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троф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ункционална процена кроз специфичне тестов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4F25-839E-4010-8F64-8EBB3EE7909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дилекциона места где се плакови чешће јављај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еривентикулар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ртикално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птички нер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рпус калосу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ждано стабл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еребелу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дула спиналис (нарочито вратни де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015F-E7AB-4D9F-9AB6-ADC06B5A3B1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ТРЕМОР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емор у мир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а ли се јавља у рукама, ногама, лицу или као тремор глав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а ли је унилатералан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а ли се смањује при циљаном покрет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5CD1-B7A2-4D92-9F69-0E478D4CAD1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РИГО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ишен тонус по типу риго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пор при пасивном покрету се описује као феномен “оловне шипке” и “феномен зупчастог точка” или Негроов феноме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ује се покретима врата и екстремитет у целом обим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а ли је присутан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а ли је једностран или обостран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915D-CCA6-47C1-8DBB-A0B1E99B557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покине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лавни узрок инвалидитета код оболелих од ПБ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Хипокинезија је смањена амплитуда покрета, док је брадикинезија спорост покрета, губитак ритма и сиромаштво спонтане моторик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орост вољних покрета одговорна је за тешкоће у свакодневном живот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матра се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кретање пацијента у кревету, устајање са столице, жвакање хране, облачење, умивање, ход и др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1705-8831-49CD-9503-22012FE4C30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штећење постуралних рефлек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рок инавлидитета код пацијен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посматра се устајање пацијента, процена става и равнотеже (благо се гурну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процењује се способност да се окрећу и мењају правац крет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0119-8AC5-49D2-969D-8123E173615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израза лиц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лице особа са ПБ је безизразно (као маска), поглед укочен,мимика успорена (хипомимиа, амимиа), лице сјајно (“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cies oleosa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гово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говор је монотон, слабије артикулисан и успоре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рукопи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есник пише ситним словима, током писања једног реда, слова се смању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CB7A-1102-47E1-8964-5C783FD820E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837720" y="19051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ход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ход код особа са ПБ је поремећен, због хипертоније, спори малим корацима, тежиште тела померено пут напред (склони су паду и повређивању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0F05-F70B-425C-9CE4-C10E1DB04AB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физиотерапеутског прегледа врши се постављање адекватног индивидуалног кинезитерапијског прогр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ункционална процена врши се путем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Бергова скала балан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Унификована скала за процену Паркинсонове болест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3. ПАС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kinson Activity Scale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тест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8533-9785-4A8F-8034-FEFEE5CEC7D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ежбе истезањ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истезања су први корак у програму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ве вежбе повећавају обим покрета у зглобовима, помажу у побољшању става тела, штите зглобове од истегнућа и уганућа, побољшавају циркулацију и опуштају мускулатур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тезање се врши до осећаја лаког истегнућа а не до осећаја бо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де се свакодневно, по 3 пута свако истез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7D98-2C7A-483C-9C00-1A8341AFAE0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ежбе снаг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дстављају вежбе против отпора, а отпор може представљати сама тежине дела тела, отпор еластичним трак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воде до јачање мишића, помаже побољшању постуре, побољшавају општу кондицију, смањују ризик од пада, смањује замор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снаге повећавају минералну коштану густину (остеопороз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ваки дан радити вежбе снаге за другу групу мишића, постепено повећавати број понављања, без замор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DBB2-E97A-478F-A23A-E433EE54D71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асивне вежб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циљу истезања мишића и мекоткивних структу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речавају развој контракту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0AE4-7EA7-47E3-8FBC-BD530D260FC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1430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33720" indent="-3337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семинованост лезије у простор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3720" indent="-333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3720" indent="-3337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ест почиње појавом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3720" indent="-333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рестезија у појединим деловима тел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3720" indent="-333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торна слабост у виду хемипареза, монопареза или парапаре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3720" indent="-333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тробулбарни неурити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3720" indent="-333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плоп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3720" indent="-333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ртиг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3720" indent="-333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стабилност при ход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3720" indent="-3337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4A08-2FC4-413B-9316-6156B651B1C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ежбе проприоцепц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хода, увежбавање окретања, устајање са стол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на балансним даскам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7B30-1EC9-414A-A57F-A158F75AAD1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Аеробне вежб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еробне или вежбе кондиције су вежбе које укључују активност целог тела, при чему, осим мишића, тренирамо и капацитет срца и плућа. Међу аеробичке активности можемо уврсти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од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лив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ожња бицикл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лес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олф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аветује се три пута недељно, 20 мину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гу се спроводити групно или индивидуал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8FF5-DFD0-47A9-8454-C96E6B74BB4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равила за кт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ежбе спроводити увек приближно у исто време, када је пацијент најодморнији и најопуштени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оком вежбања носити удобну одећу и обућ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мпо и број вежби прилагодити (избећи замор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ваку вежбу изводите полако, уз задржавање постигнутог положаја, најмање 5 а највише 10 с  и  поновити 8-10 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оком вежбање уједначени ритам дис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авезно водите дневник пад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6C84-B7CB-4900-BCDC-4AD02D9CECA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ежбе дисањ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ежбе дисања можете проводити у седећем или лежећем положају, рамена опуштена, држећи дланове на трбуху, дубоко удахните на нос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сећајући како се руке одижу с трбухом, затим полако издишите на уста као да гасите свећ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B824-4329-4F4B-A59D-3459F6E0CEA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Вежбе за мимичну мускулатур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Вежбе проводите пред огледалом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евајте и читајте наглас, уз наглашавање покрете уснама, рецитирајте азбуку и бројите наглас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Добро жваћите храну, премештајте је с једне стране уста на другу, а избегавајте гутање великих залогај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Чврсто затворите очи и онда их јако отворите и подигните обрве гор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адујте образе, затим премештајте ваздух с једне стране на другу и потом га лагано испустите кроз мало отворена уст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адујте образе, прсте обе руке ставите на образе, покушајте прстима истиснути ваудух, чврсто стишћући усне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35E8-6E1A-46CA-A78E-551273E4CA3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Вежбе хода и координације ход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гулишу постурални став и враћају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т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жиште уназа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 ходу треба ходати на широкој основи (25-30 цм између стопал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нтролисати положај ноге за време њихања и правилно додиривати под петом и пуним стопал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бучити паијента за спровођење ктх програма у кућним услов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15F1-4AB1-40B4-AAED-216DF53D0A3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Вежбе хода- основна правил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ините дуже кора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дижите прсте приликом започињања корака а кад спуштате стопало на под, прво спустите пет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Ходајте благо размакнутих ногу, како би си осигурали стабилн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авезно гледајте испред себ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ристите руке, нека се слободно њиш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 користите само праволинијска крет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зводите више активности одједн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A751-0772-4858-8CC7-9EE1950F84B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ежбе хода- основна правил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о сваки следећи корак постаје све краћи СТАНИТЕ и поновно крените с дугачким корак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о се „закочите“, останите мирни, подигните главу горе, опустите се и покушајте корачаи у  месту или се љуљајте с једне на другу страну, затим се подижите на прсте и спуштајте на пет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ликом окретања увек држите стопала размакнута, поглед испред себе и прво окрећите главу а ако се окрећете иза угла ходајте у широком лук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73AA-F91C-460C-AC8A-76B204402D6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Рад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фек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кинезиолошки је многоструко понављање покрета у оквиру радне терапије доприносе побољшању спретност, координације и функционалности Г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психосоцијалн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побољшање у активностима дневног живо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побољшање у професионалном оспособљавањ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B99A-1ABA-4214-8B91-A7F5ED7EB2C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роцена функционалности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Бергова скала баланс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spcBef>
                <a:spcPts val="180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Скaлa сaдржи 14 функциoнaлних зaдaтaкa зa прoцeну бaлaнсa (код стaриjих oсoбa сa пoрeмeћajeм рaвнoтeжe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180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Пoтрeбнo: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>
              <a:spcBef>
                <a:spcPts val="18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лeњир,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>
              <a:spcBef>
                <a:spcPts val="18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двe стaндaрндe стoлицe, (jeднa сa нaслoнoм, другa бeз нaслoнa),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>
              <a:spcBef>
                <a:spcPts val="18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стeпeр или хoклицa,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>
              <a:spcBef>
                <a:spcPts val="18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штoпeрицa или ручни сaт,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>
              <a:spcBef>
                <a:spcPts val="18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прoстoр oд нeкoликo мeтaр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1800"/>
              </a:spcBef>
              <a:buSzPct val="1132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Пoтрeбнo врeмe: 15 – 20 min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550"/>
              </a:spcBef>
              <a:buSzPct val="1132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1602-7901-4651-906D-3BE8BE9B8C7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линички облиц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ренутно прихваћена класификација МС дефинише 3 клиничке презентације болес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релапсно ремитентн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секундарно прогресивна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. примарно прогресив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највећем броју случајева МС је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релапсно-ремитентног ток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који се карактерише епизодама погоршања неуролошког статуса (релапса) праћених периодима опоравка и релативне клиничке стабилности (ремисије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530B-E48C-4D0B-9EE1-FEA55F947E3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1. Прелазак из седећег у стојећи положај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1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Молимо устаните. Покушајте да се не помажете рукама приликом устајањ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11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устане без употребе руку и да се стабилизу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11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устане помажући се рук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1199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устане помажући се рукама из неколико покуша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1199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ана минимална помоћ приликом устајања и стабилизов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1199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на прилична или максимална помоћ око устај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A997-9E56-44A4-8159-7091A2422F4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2. Стајање без подршк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65760" indent="-365760">
              <a:spcBef>
                <a:spcPts val="18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Молимо стојте усправно без подршке 2 мину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18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тоји сигурно два мину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18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тоји два минута са надзор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18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тоји без подршке 30 секунд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18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ано неколико покушаја да стоји без подршке 30 секунд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1800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не може да стоји без подршке 30 секунд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1800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о је испитаник способан да стоји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2 mi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без подршке, онда скор за стајање без подршке износи 4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9D45-0425-4E99-ACD4-A9920746DC9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3. Седење на столици без насло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8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Молимо седите са прекрштеним рукама 2 мину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18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еди сигурно два мину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18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еди два минута са надзор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18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еди 30 секунд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18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еди 10 секунд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1800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не може да седи без подршке 10 секунд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85D1-F858-4B49-9113-707E02ABD2A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4. Прелазак из стојећег у седећи положај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Молимо седит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8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едне уз минимално придржавање рук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8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контролише седање уз помоћ рук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8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еда ослањајући се ногама на столиц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8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еда сам али неконтролиса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800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на помоћ другог лица да сед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DBD6-52F0-4748-9007-C863B3FC163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5. Трансфер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1800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: Припремите столице за трансфере. Замолите испитаника да седне са столице без наслона на столицу са наслоном. Можете користити две столице (једну са наслоном и другу без наслона) или кревет и столицу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1800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способан-а да уради трансфер уз минималну помоћ руку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1800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способан-а да уради трансфер придржавајући се рукам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1800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способан-а да уради трансфер уз вербалну помоћ и надзор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1800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потребна једна особа да помогне при трансферу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1800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потребне две особе да би се трансфер обавио сигурн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AE16-1B45-4016-A711-3A085763DEC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6. Стајање без подршке са затвореним очим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18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Молимо затворите очи и покушајте да тако стојите 10 секунд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18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тоји 10 секунд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18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тоји 10 секунди уз наџо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18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тоји 3 секун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18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не може да стоји 3 секунде са затвореним очима, али стоји сигурно са отвореним оч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1800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на помоћ да испитаник не пад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50F0-337D-4632-97D4-0A33E7FE3CD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7. Стајање без подршке са спојеним ногам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Молимо станите спојених ногу без придржав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игурно стоји са спојеним ногама без придржавања 1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игурно стоји са спојеним ногама без придржавања 1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in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уз надзо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игурно стане са спојеним ногама без придржавања али не дуже од 30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на помоћ да заузме положај али може да га одржи 15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на помоћ да заузме положај али не може да га одржи 15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5502-B81B-4525-A2D3-A810E2B1348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8. Досезање напред са испруженим рукама у стојећем положају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18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Станите бочно поред зида. Подигните руку до 90˚. Испружите прсте докле год можете, а да при том не искорачите (испитивач мери растојање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18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досегне напред 25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18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досегне напред 12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18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досегне напред 5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18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досеже напред али уз наџо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1800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док покушава губи баланс / потребна помо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F069-95F0-4C31-8843-71BDB4A2AEF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9. Подизање предмета са пода из стојеће пози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1800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нструкција: Подигните ципелу / папучу испред Ваших ногу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4 способан-а да подигне папучу лако и безбедн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3 способан-а да подигне папучу али потребан надзор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2 не може да дохвати папучу, али одржава баланс 5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m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до папуч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1 не може да дохвати папучу и потребна му је помоћ приликом враћањ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0 не може да покуша, потребна помоћ да не изгуби равнотежу и да не падн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25BA-55AF-4721-B9D3-A2E1AE11149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10. Поглед преко левог и десног рамена док стој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Погледајте иза себе преко свог левог рамена (са ротацијом у трупу). Поновите то и са дес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тране (испитивач може бити иза његових л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ђ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 држећи предмет у руци у који ће испитаник да поглед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а сигурношћу погледа преко оба рам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а сигурношћу погледа преко једног, а несигуран поглед преко другог рам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окреће се бочно одржавајући балан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ан надзор приликом окрет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на помоћ приликом окрет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9B20-1BAF-4262-AEF2-7A06A2041EF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Релапс болести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је непредвидив, како у смислу времена настајања, тако и манифестац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имптоми и знаци неуролошког оштећења који се у оквиру релапса могу јавити с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 нагле промене у сензибилитету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 контроли бешике и црев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равнотежи,         - когници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снази,                 - бол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виду,                   - координациј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A4AF-D734-494F-A005-F144338B9CF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11. Окрет за 360 степен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11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Направите пун круг, правећи кораке, пауза, онда се окрените у другом смер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11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 да се са сигурношћу окрене за 360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º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за 4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11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е са сигурношћу окрене за 360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º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у једну страну за дуже од 4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1199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е са сигурношћу окрене за 360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º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али полак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1199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ан наџор приликом окретања и вербалана подрш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1199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на помоћ приликом окрет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F048-A649-42A2-A0BF-B4529EC6766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12. Искорак напред у стојећем положају без подршк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65760" indent="-365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Молимо искорачите стопалом на столичицу, једн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а другом ногом. Поновите то 4 пут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а оба стопа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е са сигурношћу направи 8 искорака за 20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е са сигурношћу направи 8 искорака за дуже од 20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е са сигурношћу направи 4 искорака без помоћи али уз надзо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пособан-а да се са сигурношћу направи 2 са минималном подршк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требна помоћ да одржи положај / не може да покуш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DF55-A8A0-42E3-8694-6882A98A8D4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13. Искорак напред без подршк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1800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Инструкија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: Поставите стопала једно испред другог. Ако мислите да не можете тако да их поставите, онда покушајте да их удаљите али да остану у истој равни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способан-а да заузме положај и да га одржи 30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способан-а да постави ногу испред ноге (искорак треба да буде дужи од дужине стопала) и одржи 30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способан-а да направи мали искорак и оџи га 30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потребна помоћ да искораћи али онда одржава положај 15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губи равнотежу приликом искорака или стајањ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AAFE-9401-425E-B557-1EAD73741AC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14. Стајање на једној ноз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1800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Инструкција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: Станите на једну ногу колико год можете без придржавањ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способан-а да подигне ногу и одржи положај преко 10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способан-а да подигне ногу и одржи положај 5–10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способан-а да подигне ногу и одржи положај око 3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покушава да подигне ногу не може да одржи положај ни 3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, али не губи равнотежу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800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 )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губи равнотежу приликом покушаја, потребна заштита од пад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AEED-35CE-496C-9EA6-B31AF602471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ТУМАЧЕЊЕ РЕЗУЛТА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24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1 – 56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изa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стeпeн ризикa oд пaд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24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1 – 40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рeдњ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стeпeн ризикa oд пaд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24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0 – 20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исo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стeпeн ризикa oд пaд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24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купан резултат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аксимум 5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24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спитаник мора разумети да све време мора одржавати баланс покушавајући да испуни задата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2401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збор, којом ће ногом иступити или која ће му бити стајна препуштени су испитанику. Лоша процена ће имати негативан утицај на укупан резултат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3ABF-E4AD-4BE4-9EC5-F86E00BE7D3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Hen и Jarova СКАЛА ЗА ПРОЦЕНУ ТЕЖИНЕ ПАРКИНСОНОВЕ БОЛЕСТ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1: нема знакова болест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1: унилатерална болест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1,5: унилатерална болест уз аксијалну захваћеност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2: обострана болест , без поремећаја равнотеж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2,5: блага обострана болест, успева да поврати равнотежу током наглог повлачења или гурања у стојећем ставу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3: блага до умерена обострана болест , извесна постурална нестабилност, физички независта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4: тешка онеспособље, још увек хода или стоји без помоћи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5: везан за покретна колица или кревет уколико му се не помаж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C31E-52EE-4402-B4E1-A50FE715A6D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моторних знакова врши се путем Унификоване скале за процену Паркинсонове болести (Unified Parkinson's Disease Rating Scale - UPDR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достатак ове скале је што се њоме не процењују адекватно немоторни симптоми ПБ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жина болести врши се путем H&amp;Y ска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3544-A5DC-422E-A113-5B5CB1F6072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Windows User</cp:lastModifiedBy>
  <dcterms:modified xsi:type="dcterms:W3CDTF">2020-02-12T18:06:02Z</dcterms:modified>
  <cp:revision>945</cp:revision>
  <dc:subject/>
  <dc:title>Rehabilitacija traumatoloških bolesnika</dc:title>
</cp:coreProperties>
</file>